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941-A6F4-42F9-8EC5-6D21257C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573-F767-470E-A637-DAF33099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ACF-9529-4A2B-842D-A4B33382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03E-8CAC-4495-B343-E23851AA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8B4-FD80-4ECC-878F-5769A7D6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E97-5968-4584-9986-063D0805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8FC-26B4-4417-B127-5B7DCAAE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024-EF0D-4E38-B234-11D5C7CE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538-9AE3-40BF-AD76-346CF753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6CD-4B28-40CC-9305-38E4C9E7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2DF-9599-4E6C-B17B-FD2927AF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DD8-ACDB-410A-9CB5-C82152F7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E9EB-C6D8-4060-AF39-B980D7C79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7 Na slávu Tvorcu svoj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slávu Tvorcu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iedmy svät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ed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ou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 moc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a v úcte korí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ú najkrajšiu zo všetkýc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hu vzdávaj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ánov pre ná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k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blaho znam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m od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ok náj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duša znavená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ú najkrajšiu zo všetkýc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hu vzdávaj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ánov dokona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dielo zvest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d 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m skutkom Tvorc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a srdce raduj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ú najkrajšiu zo všetkýc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hu vzdávaj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už na tejto ze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ánov vzácny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ým vzácnejší nám 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o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 o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ú najkrajšiu zo všetkýc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hu vzdávaj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10:47Z</dcterms:modified>
  <cp:revision>22</cp:revision>
  <dc:subject/>
  <dc:title>Je veľký náš Pán, on slávy je Kráľ Nech do všetkých strán  spev vrúcnych znie chvál.</dc:title>
</cp:coreProperties>
</file>